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EB5B-9CAB-4DA9-8C2B-C290C8AA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AB8F-B0EE-462A-8BE8-4694557E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3CE8-E955-428A-A715-55272C20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7AA1-EBAD-4C34-A17E-2EF9721AC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C26F-19A3-4166-AF5B-67B56CEB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3AF4-20BA-40F9-9FA4-CF617AA8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F187-A289-4897-9EC7-CA33509D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E06B-B350-454B-9D39-20541987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402F-0D63-4D33-B145-2DC82511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2F93-870C-4B6D-8103-644D7B89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C3A1-0F34-44A0-831C-93F8C577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AA78-DACB-467B-A617-E9F8D9BA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52FA-619C-42B5-9F1F-28DB89BF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E14D-5947-49EE-BEEF-2BB9D7F3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F4B7-DBEE-4E8A-9470-56FC4396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2BF6-3E40-4BCF-8575-8D0A5C0E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40A6-478B-42B1-919A-F8EEF8DB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14490-D34F-4DC7-AB1A-ED0AE185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DB605-DECF-4D13-9B3F-104DDC58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D3D47-7C0F-48D7-80DC-B95C90FC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CD2FC-F930-428C-BDE5-05BAB092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98C8B-E9BE-48AB-82AD-35322381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5468-33FA-475F-9483-C8982024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8A9FF-FECD-4DB1-B6A9-6D5D8192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10330-27A1-474C-BEF0-F48B159F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48BB7-0F5A-4591-A00E-8FD79C75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A9593-CEA1-4C0E-93F9-DD384A68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66CDF-17E0-4964-BA4F-D94E3D9B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8556B-1F20-4BBC-8246-4F951C42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59E3D-B4CD-46A5-9D82-DA51C22A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FD3E7-38DD-43E7-B5B4-251032BF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16C2A-1226-482D-BB48-CF1971C6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B60C8-4FA4-40E0-AE20-D7085DEE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CC78-C603-4ECB-9621-1C2B0DDD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DFA72-BCF7-4FB0-AFDF-DBFD0168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DC142-52E6-4989-804F-D0A96EBA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21C81-E79A-4520-BC0E-FC8E87C6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6E0F1-92E3-4588-B947-10FC044A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CCD86-3EDC-4991-84F0-AA3D5904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37662-49FD-4C48-88A7-7C26691C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11B2F-0318-4E31-9382-3F0A6F30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6905F-F154-466C-BA1E-DAE4D966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C103B-60BE-4918-B69F-E6A85E7F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E8EF5-770F-4120-9F9F-99C56CC1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86D3-DB2F-4D1D-B5E7-ED349FD8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69EAF-F910-4C2A-A4B3-4249216F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832D4-B4CB-406A-8056-6F01ED5B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1B674-194E-4B0F-8D61-1C661B9F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9B6D1-1987-4B2A-939F-040318D2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684D8-CDF6-417A-AB46-07E76EC5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23FB7-53CB-408B-AFB6-8F06DBFB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F6D57-3F28-4466-840F-799F4E50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CDC60-7683-48CB-9865-1EFA8C78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7D47D-E2EA-429D-9A43-C2D49E99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D8283-E70A-46E4-806E-E2D2A535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E7A6-3051-4E6A-916F-348D6DD2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40B0F-2E02-4779-868D-75D156E8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BAC7C-0634-41F9-A592-F98A9241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BE634-74D0-4440-A66A-50788BAE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23227-B3D7-4101-B90A-6F11D222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B007C-AAE2-4182-B30C-95987FB3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C68A5-01F8-4809-BB21-275E2266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B0C72-AEC1-4582-BC62-0316D2D6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42B5D-2F8F-45C4-8538-428529AA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5F8E2-11B6-459D-9B4A-BB0608CB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B6279-51E0-4041-B0E6-FA5F81E6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D12-F783-4C25-B832-61FCEEB3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CAB99-9D03-408E-862B-FABD29D7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34F63-2113-456F-827F-2FE9AB30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986EF-33CF-4D21-AB4F-4D1DF963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FC74-0EEF-4DDE-98FD-F9605A2A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510C-5DC4-46C3-B5C4-19FF2F5A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5A86-7E81-49B6-9063-0436E79060B0}" type="slidenum">
              <a:rPr b="0" lang="en-C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F3A6-DBAC-493A-83EB-DCC5F7102F51}" type="slidenum">
              <a:rPr b="0" lang="en-C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BCDC-078A-4963-8E57-CE995490CAF5}" type="slidenum">
              <a:rPr b="0" lang="en-C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6D5E-167B-4AD9-B94C-3387C97B5597}" type="slidenum">
              <a:rPr b="0" lang="en-C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9B06-237F-4254-B4E8-6023CDFC7336}" type="slidenum">
              <a:rPr b="0" lang="en-C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9456-D2E8-4D46-B776-C55608F39FCB}" type="slidenum">
              <a:rPr b="0" lang="en-C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n.netsmartz.org/tipsheets/AFT_brochure.pdf" TargetMode="External"/><Relationship Id="rId2" Type="http://schemas.openxmlformats.org/officeDocument/2006/relationships/hyperlink" Target="http://cdn.netsmartz.org/tipsheets/tips_for_teens.pdf" TargetMode="External"/><Relationship Id="rId3" Type="http://schemas.openxmlformats.org/officeDocument/2006/relationships/hyperlink" Target="http://cdn.netsmartz.org/tipsheets/tween_tips_2011.pdf" TargetMode="External"/><Relationship Id="rId4" Type="http://schemas.openxmlformats.org/officeDocument/2006/relationships/hyperlink" Target="http://cdn.netsmartz.org/tipsheets/protecting_kids.pdf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195120" y="628560"/>
            <a:ext cx="706464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420840" y="695160"/>
            <a:ext cx="710712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420840" y="695160"/>
            <a:ext cx="71802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1" descr=""/>
          <p:cNvPicPr/>
          <p:nvPr/>
        </p:nvPicPr>
        <p:blipFill>
          <a:blip r:embed="rId1"/>
          <a:stretch/>
        </p:blipFill>
        <p:spPr>
          <a:xfrm>
            <a:off x="420840" y="695160"/>
            <a:ext cx="6930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Title 1" descr=""/>
          <p:cNvPicPr/>
          <p:nvPr/>
        </p:nvPicPr>
        <p:blipFill>
          <a:blip r:embed="rId1"/>
          <a:stretch/>
        </p:blipFill>
        <p:spPr>
          <a:xfrm>
            <a:off x="420840" y="695160"/>
            <a:ext cx="704052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miley Face 1">
            <a:hlinkClick r:id="rId1"/>
          </p:cNvPr>
          <p:cNvSpPr/>
          <p:nvPr/>
        </p:nvSpPr>
        <p:spPr>
          <a:xfrm>
            <a:off x="7467480" y="106668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Smiley Face 2">
            <a:hlinkClick r:id="rId2"/>
          </p:cNvPr>
          <p:cNvSpPr/>
          <p:nvPr/>
        </p:nvSpPr>
        <p:spPr>
          <a:xfrm>
            <a:off x="7924680" y="2590920"/>
            <a:ext cx="533520" cy="533160"/>
          </a:xfrm>
          <a:prstGeom prst="smileyFace">
            <a:avLst>
              <a:gd name="adj" fmla="val 9282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Smiley Face 3">
            <a:hlinkClick r:id="rId3"/>
          </p:cNvPr>
          <p:cNvSpPr/>
          <p:nvPr/>
        </p:nvSpPr>
        <p:spPr>
          <a:xfrm>
            <a:off x="7924680" y="403848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Smiley Face 4">
            <a:hlinkClick r:id="rId4"/>
          </p:cNvPr>
          <p:cNvSpPr/>
          <p:nvPr/>
        </p:nvSpPr>
        <p:spPr>
          <a:xfrm>
            <a:off x="7543800" y="541008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609480" y="114300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ors Guide to Online Communication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1143000" y="26668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ine Safety Tips for Tee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7"/>
          <p:cNvSpPr/>
          <p:nvPr/>
        </p:nvSpPr>
        <p:spPr>
          <a:xfrm>
            <a:off x="1143000" y="41148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ine Safety Tips for Twe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8"/>
          <p:cNvSpPr/>
          <p:nvPr/>
        </p:nvSpPr>
        <p:spPr>
          <a:xfrm>
            <a:off x="685800" y="54864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cting K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420840" y="695160"/>
            <a:ext cx="690084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3T17:23:25Z</dcterms:created>
  <dc:creator>David Cogswell</dc:creator>
  <dc:description/>
  <dc:language>en-US</dc:language>
  <cp:lastModifiedBy>Mike</cp:lastModifiedBy>
  <dcterms:modified xsi:type="dcterms:W3CDTF">2012-07-19T20:05:20Z</dcterms:modified>
  <cp:revision>2</cp:revision>
  <dc:subject/>
  <dc:title>Slide 1</dc:title>
</cp:coreProperties>
</file>